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FF1-7C2D-476E-9A06-773F9076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41B-3B4D-4C15-87B8-9E4D7B34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E80-9549-46C3-BBDC-F8B1B5BD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E29-17FC-4AE4-AC87-B77BA173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FB71-198F-4F06-97F4-A64286CA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F8D2-8B55-40D0-9B7F-916B0C5A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D3A3-BB78-4EE3-A740-46DF4128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17FD-5157-4983-82C0-3EB64289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FCD9-8E87-4D97-8C49-0EFA520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E0BE-7B0E-494F-916F-F0D7DF72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EDA6-565B-4F71-8690-6C450F9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E4A-7DF5-4BDA-8D21-BE719BBE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695F-99F1-44ED-BD4F-C249ABE7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6141-7068-4221-8BBB-04C3B06A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D113-4E8D-48CB-87A9-FE4BB57C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5C1A-5B0B-4D35-B81C-87C3E6B4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F505-3849-43DD-A259-8EDCDDF2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6C5-FC42-4F9A-B4B9-99977E8C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C21-1BFA-44C4-AA3C-9E3736CA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F1E-DBC6-4291-8369-DB42216C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647-D19A-4240-B87D-887A21C4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56B-4804-4573-A250-1D980E66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2E5-4DF6-4ECE-A3AC-21B1138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504-F4D9-4752-AFAD-1CEABE8F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BE91-7314-40E3-81C0-DAA492C456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305D-18FE-4D1A-8068-5C7C3DF8F8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Vocabular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Dy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cend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ing up , or ris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umber was ascen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3886200"/>
            <a:ext cx="1676520" cy="2362320"/>
          </a:xfrm>
          <a:prstGeom prst="upArrow">
            <a:avLst>
              <a:gd name="adj1" fmla="val 50000"/>
              <a:gd name="adj2" fmla="val 3522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scend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ering, or loo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umber was descen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276720"/>
            <a:ext cx="1523880" cy="2743200"/>
          </a:xfrm>
          <a:prstGeom prst="downArrow">
            <a:avLst>
              <a:gd name="adj1" fmla="val 50000"/>
              <a:gd name="adj2" fmla="val 450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stima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ring, or rou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1 estimated to 2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Flashcard of a math symbol for Approximately Equal To"/>
          <p:cNvPicPr/>
          <p:nvPr/>
        </p:nvPicPr>
        <p:blipFill>
          <a:blip r:embed="rId2"/>
          <a:stretch/>
        </p:blipFill>
        <p:spPr>
          <a:xfrm>
            <a:off x="2438280" y="3352680"/>
            <a:ext cx="25815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9:00:03Z</dcterms:created>
  <dc:creator>dylan.lynch</dc:creator>
  <dc:description/>
  <dc:language>en-US</dc:language>
  <cp:lastModifiedBy>dylan.lynch</cp:lastModifiedBy>
  <dcterms:modified xsi:type="dcterms:W3CDTF">2010-11-23T19:16:06Z</dcterms:modified>
  <cp:revision>2</cp:revision>
  <dc:subject/>
  <dc:title>Vocabulary</dc:title>
</cp:coreProperties>
</file>